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026-118C-401B-BECB-25FD6C60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024-587C-424B-B38B-E6AA69C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77B-6FB4-4CB7-8727-85768711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375-35A6-4533-BAB8-4594E845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DBC-0CD9-4B2A-B824-FDFF70F9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347D-6477-4D80-B169-DD408BE2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3F7-8EED-436D-8BFD-408247C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147-422A-4646-A1C2-DCE17779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43A0-8C49-4EEA-BB52-C8826FF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45F-3AC9-4FDD-AD4A-3020DE4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0D02-75B5-4D1C-A111-9DE0F07B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1FD-3634-44AE-B542-F572E8E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4D8-DE6A-464C-99EB-1FD1383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C812-95CF-44FA-84EE-6EA6004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EC2E-7E22-410C-A855-42454CB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BC6-BA6D-4553-9CC5-855950CE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70B-3721-47EE-8D03-A583EF87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99A-FE49-44A2-BCDC-DB84E6E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576-18F1-4C69-B2A1-06DE712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697-0A5F-4350-AEFF-DEBB1C5E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FB9-87C5-4026-9F76-7A9316C4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490-8EFC-409A-AD45-5BC8F0B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2D9-6A8E-438A-B57F-CAA9DC9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7C5-64D6-405E-BA6E-CB171F8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461-FDC2-4D07-8DE0-3A39441A48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5DE9-7299-4CBB-81BA-095703A155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 Clase 6NM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30 de enero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Propósito # 37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pia y responde en oraciones comple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sociable o tími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alto o baj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franceses o norteamerican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ricos o pob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sted una persona alegre o tris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87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epaso de la Tarea # 36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65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ién es Ud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De dónde es Ud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l es su nacionalida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ómo es Ud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d. un/a alumno/a estudioso/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son sus amig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ién es su mejor amigo/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 Ud. rubio/a, moreno/a o pelirrojo/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- </a:t>
            </a:r>
            <a:r>
              <a:rPr b="1" lang="es-ES_tradnl" sz="2400" spc="-1" strike="noStrike">
                <a:solidFill>
                  <a:srgbClr val="9999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el antónim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opposi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fíc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ua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vert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I-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leta co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amiga de Juan es de Boliv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muchachos son alumnos en ______ colegio San Sebasti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lases son aburridas y fác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asa es pequeñ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66236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III-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completa con al forma correcta del verbo S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trabaj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español y mi madre _____ norteamerica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hermano y yo _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padres también 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sotros no _______ al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o _____ flaco, pero mi hermano _____ gor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dos hermanas ______ buenas alumnas; ellas ______ muy intelig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________ tú? ¿________ alto o bajo, flaco o gor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ú _______ mi amigo. Tú ______ peruano, yo _______ norteameric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99"/>
                </a:solidFill>
                <a:latin typeface="Verdana"/>
              </a:rPr>
              <a:t>IV-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y and write the correct form of S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Él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ú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sotros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os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es 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37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9:16:34Z</dcterms:created>
  <dc:creator>Helen Zumaeta</dc:creator>
  <dc:description/>
  <dc:language>en-US</dc:language>
  <cp:lastModifiedBy>Helen Zumaeta</cp:lastModifiedBy>
  <dcterms:modified xsi:type="dcterms:W3CDTF">2012-01-30T12:06:47Z</dcterms:modified>
  <cp:revision>3</cp:revision>
  <dc:subject/>
  <dc:title>Slide 1</dc:title>
</cp:coreProperties>
</file>